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5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6FF-114B-4C7E-9686-5D0C887B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FA8-80C9-4B3B-9723-A55DC421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3DC-C672-41F0-99D2-8A9B9315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9A4-C410-4AE2-B78F-435A2C29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0EDF-E9DA-4821-9CCF-F0174980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B23A-7892-4584-AB21-370D9B79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01E0-09C1-4DB0-BE7A-86FAFD6C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8265-2CAB-444B-9369-F32303CE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5989-0A92-440E-B2C9-D7A47EC7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86C8-A373-42FC-97A6-9DD6703A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8299-1915-46DD-BC5E-7E97232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C9B-5B14-4A80-B58A-3A9F143A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B2E0-1284-4368-A77F-648E5E58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1476-998E-46BE-988B-7022C8C4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38A8-1C6D-42D4-A1F8-180FD949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699B-CE60-446B-9FD1-2EA2F8BA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7FC2-8588-4F17-9317-A8CD78D8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997-BBB3-4312-8C51-D7E7F24A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380-BA74-4042-803F-E0A6298F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847-AFAE-462C-B943-A12F2F05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CA8-310A-4772-A0EF-A7F11895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A2E-63DF-4714-9E62-90C2BAD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2CA-D1AE-4745-A28B-AEB67739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EC8-F6A1-4504-A1DD-85BB2BB0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7EC1-EE9F-4A5D-80F0-47955F05581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19040"/>
            <a:ext cx="8534520" cy="743040"/>
          </a:xfrm>
          <a:prstGeom prst="rect">
            <a:avLst/>
          </a:prstGeom>
          <a:gradFill rotWithShape="0">
            <a:gsLst>
              <a:gs pos="0">
                <a:srgbClr val="dcdce6"/>
              </a:gs>
              <a:gs pos="50000">
                <a:srgbClr val="660066"/>
              </a:gs>
              <a:gs pos="100000">
                <a:srgbClr val="dcdc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0"/>
            <a:ext cx="781200" cy="6172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003366"/>
              </a:gs>
              <a:gs pos="100000">
                <a:srgbClr val="ddddd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44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67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C480-F9A5-4714-A130-4EEA75485FD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t.state.ny.us/reg/r10/intersection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ripps.edu/services/parking/images/bicycle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057400" y="-609480"/>
            <a:ext cx="5943600" cy="50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3b"/>
                    </a:gs>
                    <a:gs pos="50000">
                      <a:srgbClr val="800080"/>
                    </a:gs>
                    <a:gs pos="100000">
                      <a:srgbClr val="3b003b"/>
                    </a:gs>
                  </a:gsLst>
                  <a:lin ang="5400000"/>
                </a:gradFill>
                <a:latin typeface="Arial Black"/>
              </a:rPr>
              <a:t>Lin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3b"/>
                  </a:gs>
                  <a:gs pos="5000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943600" y="5257440"/>
            <a:ext cx="2432160" cy="128412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809520" y="228240"/>
            <a:ext cx="3581640" cy="2133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267080"/>
            <a:ext cx="1523880" cy="1371600"/>
          </a:xfrm>
          <a:prstGeom prst="line">
            <a:avLst/>
          </a:prstGeom>
          <a:ln w="7632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2651040" cy="4038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403848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ina Iat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aresville Elementar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outhWestern School Distric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380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2080" y="1295280"/>
            <a:ext cx="82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find the intersecting lines?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2133720"/>
            <a:ext cx="3008520" cy="2259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685440" y="2743200"/>
            <a:ext cx="3505320" cy="1447920"/>
          </a:xfrm>
          <a:prstGeom prst="line">
            <a:avLst/>
          </a:prstGeom>
          <a:ln cap="sq" w="7632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600200" y="3124080"/>
            <a:ext cx="2895480" cy="990720"/>
          </a:xfrm>
          <a:prstGeom prst="line">
            <a:avLst/>
          </a:prstGeom>
          <a:ln cap="sq" w="7632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191120" y="3276720"/>
            <a:ext cx="2465280" cy="253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1219320" y="4694400"/>
            <a:ext cx="3047760" cy="2163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6934320" y="2057400"/>
            <a:ext cx="1191960" cy="22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6553080" y="4473720"/>
            <a:ext cx="22543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1430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Times New Roman"/>
              </a:rPr>
              <a:t>Perpendicular Lines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2940120" cy="3591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800600" y="32767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2d5b"/>
                </a:solidFill>
                <a:latin typeface="Times New Roman"/>
              </a:rPr>
              <a:t>Perpendicular lines are two lines that intersect to form right angle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1981080"/>
            <a:ext cx="0" cy="4191120"/>
          </a:xfrm>
          <a:prstGeom prst="line">
            <a:avLst/>
          </a:prstGeom>
          <a:ln cap="sq" w="7632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267080"/>
            <a:ext cx="3429000" cy="0"/>
          </a:xfrm>
          <a:prstGeom prst="line">
            <a:avLst/>
          </a:prstGeom>
          <a:ln cap="sq" w="7632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840" y="2819520"/>
            <a:ext cx="2438280" cy="2437560"/>
            <a:chOff x="1752840" y="2819520"/>
            <a:chExt cx="2438280" cy="2437560"/>
          </a:xfrm>
        </p:grpSpPr>
        <p:sp>
          <p:nvSpPr>
            <p:cNvPr id="194" name=""/>
            <p:cNvSpPr/>
            <p:nvPr/>
          </p:nvSpPr>
          <p:spPr>
            <a:xfrm>
              <a:off x="1752840" y="3276720"/>
              <a:ext cx="198072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2680" y="28195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800600" y="6019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638680" y="1960560"/>
            <a:ext cx="2660760" cy="2413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53080" y="4648320"/>
            <a:ext cx="1959120" cy="1801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124080" y="2438280"/>
            <a:ext cx="1795680" cy="1735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228600" y="3809880"/>
            <a:ext cx="2543040" cy="2667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3733920" y="4572000"/>
            <a:ext cx="1884240" cy="1844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66680" y="11430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find the perpendicular lines?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erpendicular lines are also intersecting lines because they cross each other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34340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erpendicular lines are a special kind of intersecting lines because they always form “perfect” right angle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2057400"/>
            <a:ext cx="0" cy="2133720"/>
          </a:xfrm>
          <a:prstGeom prst="line">
            <a:avLst/>
          </a:prstGeom>
          <a:ln w="7632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3124080"/>
            <a:ext cx="3657600" cy="0"/>
          </a:xfrm>
          <a:prstGeom prst="line">
            <a:avLst/>
          </a:prstGeom>
          <a:ln w="7632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867280" y="4114800"/>
            <a:ext cx="2819520" cy="2133720"/>
            <a:chOff x="5867280" y="4114800"/>
            <a:chExt cx="2819520" cy="2133720"/>
          </a:xfrm>
        </p:grpSpPr>
        <p:sp>
          <p:nvSpPr>
            <p:cNvPr id="208" name=""/>
            <p:cNvSpPr/>
            <p:nvPr/>
          </p:nvSpPr>
          <p:spPr>
            <a:xfrm>
              <a:off x="7086600" y="4114800"/>
              <a:ext cx="0" cy="213372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67280" y="5181480"/>
              <a:ext cx="281952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477480" y="4343400"/>
            <a:ext cx="1980720" cy="1370880"/>
            <a:chOff x="6477480" y="4343400"/>
            <a:chExt cx="1980720" cy="1370880"/>
          </a:xfrm>
        </p:grpSpPr>
        <p:sp>
          <p:nvSpPr>
            <p:cNvPr id="211" name=""/>
            <p:cNvSpPr/>
            <p:nvPr/>
          </p:nvSpPr>
          <p:spPr>
            <a:xfrm>
              <a:off x="6477480" y="4648320"/>
              <a:ext cx="12182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43800" y="4343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11430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each figur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905120"/>
            <a:ext cx="457200" cy="380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1828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Poin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819520"/>
            <a:ext cx="175248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Lin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447920" y="3352680"/>
            <a:ext cx="1676160" cy="152640"/>
            <a:chOff x="1447920" y="3352680"/>
            <a:chExt cx="1676160" cy="152640"/>
          </a:xfrm>
        </p:grpSpPr>
        <p:sp>
          <p:nvSpPr>
            <p:cNvPr id="219" name=""/>
            <p:cNvSpPr/>
            <p:nvPr/>
          </p:nvSpPr>
          <p:spPr>
            <a:xfrm>
              <a:off x="1523880" y="3429000"/>
              <a:ext cx="16002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7920" y="3352680"/>
              <a:ext cx="228600" cy="1526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505320" y="3124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Ra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37339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Line Segmen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523880" y="4343400"/>
            <a:ext cx="1143000" cy="914400"/>
            <a:chOff x="1523880" y="4343400"/>
            <a:chExt cx="1143000" cy="914400"/>
          </a:xfrm>
        </p:grpSpPr>
        <p:sp>
          <p:nvSpPr>
            <p:cNvPr id="224" name=""/>
            <p:cNvSpPr/>
            <p:nvPr/>
          </p:nvSpPr>
          <p:spPr>
            <a:xfrm>
              <a:off x="2057400" y="4343400"/>
              <a:ext cx="0" cy="9144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23880" y="4800600"/>
              <a:ext cx="1143000" cy="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71600" y="3962520"/>
            <a:ext cx="1676520" cy="152280"/>
            <a:chOff x="1371600" y="3962520"/>
            <a:chExt cx="1676520" cy="152280"/>
          </a:xfrm>
        </p:grpSpPr>
        <p:sp>
          <p:nvSpPr>
            <p:cNvPr id="227" name=""/>
            <p:cNvSpPr/>
            <p:nvPr/>
          </p:nvSpPr>
          <p:spPr>
            <a:xfrm>
              <a:off x="1447920" y="4038480"/>
              <a:ext cx="1523880" cy="0"/>
            </a:xfrm>
            <a:prstGeom prst="line">
              <a:avLst/>
            </a:prstGeom>
            <a:ln w="572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71600" y="3962520"/>
              <a:ext cx="152280" cy="1522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5480" y="3962520"/>
              <a:ext cx="152640" cy="1522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048120" y="4572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Perpendicula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523880" y="5257800"/>
            <a:ext cx="1371600" cy="685800"/>
            <a:chOff x="1523880" y="5257800"/>
            <a:chExt cx="1371600" cy="685800"/>
          </a:xfrm>
        </p:grpSpPr>
        <p:sp>
          <p:nvSpPr>
            <p:cNvPr id="232" name=""/>
            <p:cNvSpPr/>
            <p:nvPr/>
          </p:nvSpPr>
          <p:spPr>
            <a:xfrm flipV="1">
              <a:off x="1600200" y="5410080"/>
              <a:ext cx="1066680" cy="457200"/>
            </a:xfrm>
            <a:prstGeom prst="line">
              <a:avLst/>
            </a:prstGeom>
            <a:ln w="7632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23880" y="5257800"/>
              <a:ext cx="1371600" cy="685800"/>
            </a:xfrm>
            <a:prstGeom prst="line">
              <a:avLst/>
            </a:prstGeom>
            <a:ln w="7632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048120" y="5410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Intersect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6172200"/>
            <a:ext cx="1752480" cy="304920"/>
            <a:chOff x="1371600" y="6172200"/>
            <a:chExt cx="1752480" cy="304920"/>
          </a:xfrm>
        </p:grpSpPr>
        <p:sp>
          <p:nvSpPr>
            <p:cNvPr id="236" name=""/>
            <p:cNvSpPr/>
            <p:nvPr/>
          </p:nvSpPr>
          <p:spPr>
            <a:xfrm>
              <a:off x="1371600" y="6172200"/>
              <a:ext cx="1752480" cy="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71600" y="6477120"/>
              <a:ext cx="1752480" cy="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352680" y="6019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Parall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295280" y="1371600"/>
            <a:ext cx="7315200" cy="4876920"/>
          </a:xfrm>
          <a:prstGeom prst="rect">
            <a:avLst/>
          </a:prstGeom>
          <a:solidFill>
            <a:srgbClr val="0033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2057400"/>
            <a:ext cx="6019560" cy="3352680"/>
          </a:xfrm>
          <a:prstGeom prst="rect">
            <a:avLst/>
          </a:pr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590920"/>
            <a:ext cx="4800600" cy="2361960"/>
          </a:xfrm>
          <a:prstGeom prst="rect">
            <a:avLst/>
          </a:prstGeom>
          <a:solidFill>
            <a:srgbClr val="9797b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3048120"/>
            <a:ext cx="365760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45472"/>
                </a:solidFill>
                <a:latin typeface="Times New Roman"/>
              </a:rPr>
              <a:t>Well Done!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990720"/>
            <a:ext cx="669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Line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72428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 line goes on and on in both directions. A line is drawn with an arrow on each e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752480" y="6171840"/>
            <a:ext cx="6089760" cy="20520"/>
          </a:xfrm>
          <a:prstGeom prst="line">
            <a:avLst/>
          </a:prstGeom>
          <a:ln w="7632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825640" y="1981080"/>
            <a:ext cx="4119840" cy="255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2209680" y="3338640"/>
            <a:ext cx="5334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33920" y="2743200"/>
            <a:ext cx="1295280" cy="1219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37160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45472"/>
                </a:solidFill>
                <a:latin typeface="Times New Roman"/>
              </a:rPr>
              <a:t>This is called a point!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1857600" cy="3995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47920" y="411480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When it’s at the end of a line it is called an 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endpoint!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1143000"/>
            <a:ext cx="712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45472"/>
                </a:solidFill>
                <a:latin typeface="Times New Roman"/>
              </a:rPr>
              <a:t>Line Segment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3434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 line segment is a part of a line. It is drawn with two endpoint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05120" y="5715000"/>
            <a:ext cx="5792760" cy="209520"/>
            <a:chOff x="1905120" y="5715000"/>
            <a:chExt cx="5792760" cy="209520"/>
          </a:xfrm>
        </p:grpSpPr>
        <p:sp>
          <p:nvSpPr>
            <p:cNvPr id="128" name=""/>
            <p:cNvSpPr/>
            <p:nvPr/>
          </p:nvSpPr>
          <p:spPr>
            <a:xfrm>
              <a:off x="1982880" y="5811840"/>
              <a:ext cx="566244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5120" y="5715000"/>
              <a:ext cx="174600" cy="193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23280" y="5730840"/>
              <a:ext cx="174600" cy="193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124080" y="2438280"/>
            <a:ext cx="3268800" cy="1751040"/>
          </a:xfrm>
          <a:custGeom>
            <a:avLst/>
            <a:gdLst>
              <a:gd name="textAreaLeft" fmla="*/ 718560 w 3268800"/>
              <a:gd name="textAreaRight" fmla="*/ 2550240 w 3268800"/>
              <a:gd name="textAreaTop" fmla="*/ 384840 h 1751040"/>
              <a:gd name="textAreaBottom" fmla="*/ 1366200 h 17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438280"/>
            <a:ext cx="3276360" cy="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2362320"/>
            <a:ext cx="174600" cy="1936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2362320"/>
            <a:ext cx="174600" cy="1936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3880" y="1066680"/>
            <a:ext cx="680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Ray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03200" y="3110040"/>
            <a:ext cx="749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 ray goes on and on in one direction. It is drawn with an arrow on one end and an endpoint on the other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43080" y="5429160"/>
            <a:ext cx="5541840" cy="193680"/>
            <a:chOff x="2143080" y="5429160"/>
            <a:chExt cx="5541840" cy="193680"/>
          </a:xfrm>
        </p:grpSpPr>
        <p:sp>
          <p:nvSpPr>
            <p:cNvPr id="138" name=""/>
            <p:cNvSpPr/>
            <p:nvPr/>
          </p:nvSpPr>
          <p:spPr>
            <a:xfrm>
              <a:off x="2276640" y="5545080"/>
              <a:ext cx="540828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43080" y="5429160"/>
              <a:ext cx="174600" cy="193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022120" y="6284880"/>
            <a:ext cx="5389920" cy="193680"/>
            <a:chOff x="2022120" y="6284880"/>
            <a:chExt cx="5389920" cy="193680"/>
          </a:xfrm>
        </p:grpSpPr>
        <p:sp>
          <p:nvSpPr>
            <p:cNvPr id="141" name=""/>
            <p:cNvSpPr/>
            <p:nvPr/>
          </p:nvSpPr>
          <p:spPr>
            <a:xfrm flipH="1">
              <a:off x="2022120" y="6381720"/>
              <a:ext cx="534996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7440" y="6284880"/>
              <a:ext cx="174600" cy="193680"/>
            </a:xfrm>
            <a:prstGeom prst="ellipse">
              <a:avLst/>
            </a:prstGeom>
            <a:solidFill>
              <a:srgbClr val="808000"/>
            </a:solidFill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849320" y="1670400"/>
            <a:ext cx="3678120" cy="1112400"/>
            <a:chOff x="1849320" y="1670400"/>
            <a:chExt cx="3678120" cy="1112400"/>
          </a:xfrm>
        </p:grpSpPr>
        <p:sp>
          <p:nvSpPr>
            <p:cNvPr id="144" name=""/>
            <p:cNvSpPr/>
            <p:nvPr/>
          </p:nvSpPr>
          <p:spPr>
            <a:xfrm>
              <a:off x="1898280" y="1777320"/>
              <a:ext cx="3629160" cy="1005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849320" y="1670400"/>
              <a:ext cx="224280" cy="277920"/>
            </a:xfrm>
            <a:prstGeom prst="ellipse">
              <a:avLst/>
            </a:prstGeom>
            <a:solidFill>
              <a:srgbClr val="545472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52760" cy="34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12680" y="0"/>
            <a:ext cx="7467840" cy="50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3b"/>
                    </a:gs>
                    <a:gs pos="50000">
                      <a:srgbClr val="800080"/>
                    </a:gs>
                    <a:gs pos="100000">
                      <a:srgbClr val="3b003b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3b"/>
                  </a:gs>
                  <a:gs pos="5000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3b"/>
                    </a:gs>
                    <a:gs pos="50000">
                      <a:srgbClr val="800080"/>
                    </a:gs>
                    <a:gs pos="100000">
                      <a:srgbClr val="3b003b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3b"/>
                    </a:gs>
                    <a:gs pos="50000">
                      <a:srgbClr val="800080"/>
                    </a:gs>
                    <a:gs pos="100000">
                      <a:srgbClr val="3b003b"/>
                    </a:gs>
                  </a:gsLst>
                  <a:lin ang="5400000"/>
                </a:gradFill>
                <a:latin typeface="Arial Black"/>
              </a:rPr>
              <a:t>Line Relationsh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3b"/>
                  </a:gs>
                  <a:gs pos="5000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43000" y="5715000"/>
            <a:ext cx="4343400" cy="533520"/>
            <a:chOff x="1143000" y="5715000"/>
            <a:chExt cx="4343400" cy="533520"/>
          </a:xfrm>
        </p:grpSpPr>
        <p:sp>
          <p:nvSpPr>
            <p:cNvPr id="149" name=""/>
            <p:cNvSpPr/>
            <p:nvPr/>
          </p:nvSpPr>
          <p:spPr>
            <a:xfrm>
              <a:off x="1143000" y="5715000"/>
              <a:ext cx="4267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19320" y="6248520"/>
              <a:ext cx="4267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62120" y="1828800"/>
            <a:ext cx="3276360" cy="0"/>
          </a:xfrm>
          <a:prstGeom prst="line">
            <a:avLst/>
          </a:prstGeom>
          <a:ln w="76320">
            <a:solidFill>
              <a:srgbClr val="cc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838080"/>
            <a:ext cx="1600200" cy="2057400"/>
          </a:xfrm>
          <a:prstGeom prst="line">
            <a:avLst/>
          </a:prstGeom>
          <a:ln w="76320">
            <a:solidFill>
              <a:srgbClr val="cc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3048120"/>
            <a:ext cx="0" cy="2133360"/>
          </a:xfrm>
          <a:prstGeom prst="line">
            <a:avLst/>
          </a:prstGeom>
          <a:ln w="763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3962520"/>
            <a:ext cx="2438280" cy="0"/>
          </a:xfrm>
          <a:prstGeom prst="line">
            <a:avLst/>
          </a:prstGeom>
          <a:ln w="763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4648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arallel lines are always the same distance apart. They will never touch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6095880"/>
            <a:ext cx="6400800" cy="0"/>
          </a:xfrm>
          <a:prstGeom prst="line">
            <a:avLst/>
          </a:prstGeom>
          <a:ln w="7632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6400800"/>
            <a:ext cx="6400800" cy="0"/>
          </a:xfrm>
          <a:prstGeom prst="line">
            <a:avLst/>
          </a:prstGeom>
          <a:ln w="7632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27480" y="6400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97b7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9797b7"/>
                </a:solidFill>
                <a:latin typeface="Times New Roman"/>
              </a:rPr>
              <a:t>Enemy Lines”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3581640" cy="2363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2439360" y="1219320"/>
            <a:ext cx="39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Parallel Lines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81480" y="3886200"/>
            <a:ext cx="3353040" cy="2690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3733560" cy="2651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295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an you find the parallel lines?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209680" y="2209680"/>
            <a:ext cx="3830760" cy="2259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324480" y="2362320"/>
            <a:ext cx="17719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00200" y="1066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tersecting Lines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7" name="" descr="">
            <a:hlinkClick r:id="rId2"/>
          </p:cNvPr>
          <p:cNvPicPr/>
          <p:nvPr/>
        </p:nvPicPr>
        <p:blipFill>
          <a:blip r:embed="rId3"/>
          <a:srcRect l="0" t="9423" r="0" b="0"/>
          <a:stretch/>
        </p:blipFill>
        <p:spPr>
          <a:xfrm>
            <a:off x="2666880" y="2133720"/>
            <a:ext cx="3505320" cy="2381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066680" y="40384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Intersecting lines are two lines that cross each other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6172200"/>
            <a:ext cx="2590920" cy="0"/>
          </a:xfrm>
          <a:prstGeom prst="line">
            <a:avLst/>
          </a:prstGeom>
          <a:ln cap="sq" w="76320">
            <a:solidFill>
              <a:srgbClr val="66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27120" y="5715000"/>
            <a:ext cx="2511360" cy="866880"/>
          </a:xfrm>
          <a:prstGeom prst="line">
            <a:avLst/>
          </a:prstGeom>
          <a:ln cap="sq" w="76320">
            <a:solidFill>
              <a:srgbClr val="66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60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97b7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9797b7"/>
                </a:solidFill>
                <a:latin typeface="Times New Roman"/>
              </a:rPr>
              <a:t>Friends”</a:t>
            </a:r>
            <a:r>
              <a:rPr b="0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505320" y="1905120"/>
            <a:ext cx="3200400" cy="914400"/>
          </a:xfrm>
          <a:prstGeom prst="line">
            <a:avLst/>
          </a:prstGeom>
          <a:ln cap="sq" w="57240">
            <a:solidFill>
              <a:srgbClr val="9595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962520" y="1905120"/>
            <a:ext cx="1676160" cy="2286000"/>
          </a:xfrm>
          <a:prstGeom prst="line">
            <a:avLst/>
          </a:prstGeom>
          <a:ln cap="sq" w="57240">
            <a:solidFill>
              <a:srgbClr val="9595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5715000"/>
            <a:ext cx="1828800" cy="1143000"/>
          </a:xfrm>
          <a:prstGeom prst="line">
            <a:avLst/>
          </a:prstGeom>
          <a:ln cap="sq" w="7632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714640" y="5756400"/>
            <a:ext cx="1714680" cy="981000"/>
          </a:xfrm>
          <a:prstGeom prst="line">
            <a:avLst/>
          </a:prstGeom>
          <a:ln cap="sq" w="7632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17:00:50Z</dcterms:created>
  <dc:creator>Emory H. Markle Intermedaite School</dc:creator>
  <dc:description/>
  <dc:language>en-US</dc:language>
  <cp:lastModifiedBy>Property of</cp:lastModifiedBy>
  <dcterms:modified xsi:type="dcterms:W3CDTF">2010-12-16T14:12:13Z</dcterms:modified>
  <cp:revision>13</cp:revision>
  <dc:subject/>
  <dc:title>PowerPoint Presentation</dc:title>
</cp:coreProperties>
</file>